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88FB-587E-49C7-88D5-4978EC54D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326B-5C1A-4E4B-9613-AF127E69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B225-B05C-473E-891C-582AD163B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B091-3EB3-4E42-AA17-2A80645D8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D207E-3E65-48B4-B767-DBD4F443C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43EAB-56BC-4F84-9ADB-AC4A03A7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D5CFA4-DBC7-44C8-99E7-2879E16A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4137B-229A-4060-B458-159E98CC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739D30-A978-42B8-AE5F-68C0B24A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C7262-E8C6-45A4-B86F-072DADDE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D00AB-EC90-42B0-88BE-1D707912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2A1E-E797-402F-95D9-52FF5BB7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740D5-137B-47E3-AB67-C5385579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67C0B-ECD6-458C-9F8A-61404F9C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89169-5F6A-4C13-83A5-E91C6605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76DE7-3EF1-4988-BE1F-453779103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6B6A1-11CF-4AA3-9C39-6BE50CBC0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DA21-E463-4479-8874-17259406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CE6F-DFA6-4473-9FA3-A0A55ADB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329E-31B4-4847-A76E-0E86827D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2C4F-DF97-4E91-A429-83D60531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7E2A-6B59-48CA-A4D7-2304DFDA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D2BF-DAAF-4498-8F0D-4EDF6DAF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C52E-E40E-42D8-B68B-F579EDAF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A6F4-6DE2-4259-B076-B39E934C3344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BA97-1A25-4957-963C-6F1A0824CD82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14400" y="965160"/>
            <a:ext cx="762012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Monotype Corsiva"/>
              </a:rPr>
              <a:t>Lesson Fourte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Monotype Corsiva"/>
              </a:rPr>
              <a:t>Do you speak English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80880" y="0"/>
            <a:ext cx="83059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sk and answer the questions in pai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did you have last yea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part of France were you i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d you been in a small villag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re did you drive on 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waved to you on the w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did he ask you fo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did you say good morning to hi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language did you spea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d your passenger reply in Frenc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many words of French do you know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d you speak to him during the journe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did he suddenly say someth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did he ask you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" y="380880"/>
            <a:ext cx="822960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tell the stor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using experience---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ft---small village---south of France---dr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the way---man waved---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opped---asked---li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o---car---good morning---Fren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---same langu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ew words---not---any Fren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ither---spoke---jour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arly---town---suddenly’---speak English?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arnt---English him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293760"/>
            <a:ext cx="8458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ad an amusing  experienc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ast year. After I had left a small villag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 the south of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France, I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rove 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o the next town.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n the wa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a young man waved to me. I stopped and 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sked me for a lif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As soon as he had got into the car, I said good morning to him in French and he </a:t>
            </a: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replied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in the same language. </a:t>
            </a: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Apart from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 few words, I do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no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know any French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 al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Neither of us spoke during the journey. I had nearly reached the town, </a:t>
            </a: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3" action="ppaction://hlinksldjump"/>
              </a:rPr>
              <a:t>when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the young man suddenly said, very slowly, ‘Do you speak English?’ As I soon learnt, he was English himself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lastslide"/>
          </p:cNvPr>
          <p:cNvSpPr/>
          <p:nvPr/>
        </p:nvSpPr>
        <p:spPr>
          <a:xfrm>
            <a:off x="8077320" y="57913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09480" y="2286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ply &amp; ans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8380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I.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都是不及物动词时，可以互换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23623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II.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都跟宾语从句时，可以互换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28195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 answered / replied that he was not com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342900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III. answer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是及物动词；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reply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是不及物动词，带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语时，后面要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to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4267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He answered / replied to the question / 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mo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5181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. Have you replied to / answered his lett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37160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I asked him where to go, but he didn’t answer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rep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7924680" y="59436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09480" y="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apart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3e3ff"/>
                </a:solidFill>
                <a:latin typeface="Arial"/>
              </a:rPr>
              <a:t>= except for / besides </a:t>
            </a:r>
            <a:r>
              <a:rPr b="1" lang="zh-CN" sz="2800" spc="-1" strike="noStrike">
                <a:solidFill>
                  <a:srgbClr val="e3e3ff"/>
                </a:solidFill>
                <a:latin typeface="Arial"/>
              </a:rPr>
              <a:t>除去，除……之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1066680"/>
            <a:ext cx="744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除一辆轿车之外，我想不起我还需要什么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1676520"/>
            <a:ext cx="85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 can’t think of anything I need apart from a c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362320"/>
            <a:ext cx="585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他除了鼻子以外，哪儿都很好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304812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art from his nose, he is quite good-look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3733920"/>
            <a:ext cx="78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他除了脸部和双手受伤以外，两条腿也断了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44197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art from the injuries to his face and hand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 broke both le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8305920" y="5791320"/>
            <a:ext cx="533160" cy="30456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8600" y="4572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Sb had (just) done sth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Sb. was doing sth.                             When sb. else did s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Sb. was going/about to do s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228600"/>
            <a:ext cx="68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Arial"/>
              </a:rPr>
              <a:t>｝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1905120"/>
            <a:ext cx="53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正要走，电话铃突然响了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236232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 was just about  to leave when the teleph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ddenly ra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3200400"/>
            <a:ext cx="65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们正在吃饭，一个朋友走了进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3733920"/>
            <a:ext cx="87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e were having our dinner when a friend came 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267080"/>
            <a:ext cx="66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他们刚刚干完活，天就下起雨来了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480060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y had just finished their work when it beg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o r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8305920" y="60199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04920" y="0"/>
            <a:ext cx="8839080" cy="88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Monotype Corsiva"/>
              </a:rPr>
              <a:t>Summary wri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ffff"/>
                </a:solidFill>
                <a:latin typeface="Monotype Corsiva"/>
              </a:rPr>
              <a:t>The writer gave a lift to a young man in the south of France last year. They greeted each other in French. Apart from a few words, the writer doesn’t speak any French. They sat in silence. At the end of the journey the young man asked, ‘Do you speak English?’ He was English himself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Monotype Corsiva"/>
              </a:rPr>
              <a:t>                                                  </a:t>
            </a:r>
            <a:r>
              <a:rPr b="1" lang="zh-CN" sz="4400" spc="-1" strike="noStrike">
                <a:solidFill>
                  <a:srgbClr val="ffffff"/>
                </a:solidFill>
                <a:latin typeface="Monotype Corsiva"/>
              </a:rPr>
              <a:t>(55 words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6T09:27:27Z</dcterms:created>
  <dc:creator/>
  <dc:description/>
  <dc:language>en-US</dc:language>
  <cp:lastModifiedBy>史流</cp:lastModifiedBy>
  <dcterms:modified xsi:type="dcterms:W3CDTF">2002-08-05T03:12:12Z</dcterms:modified>
  <cp:revision>18</cp:revision>
  <dc:subject/>
  <dc:title>幻灯片 1</dc:title>
</cp:coreProperties>
</file>